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6CC12-BE07-4DCB-BA8C-9177982BD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13B97-F04D-4592-852F-6D8BBCDFA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7238B-07A8-4E42-861D-B956089C4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4CD85-680C-4FDD-A49E-752972C53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3E76F8-9EBF-4754-BF80-4C7809259C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E0517F-CC54-49BD-94B5-933D938266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C42C35-43E7-4FDF-ABCB-E13C777651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036EA-B312-45AC-9383-43EA9C8BA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C504A-0169-4BC3-A740-325C169B2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66C8A-588C-41DB-83B3-1917E5FAF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00BF7-3770-467F-90C5-BBFF99870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865D0-34BE-48E6-9489-5BAE1E059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0DDA9-C265-4113-BC02-BB53AA4FE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8806E-CE0E-4999-A78D-FDADCD6E9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5C80F-A7AB-4058-ACD5-046017368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9F8980-46AE-4B05-8B34-1C7CFD6541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AC0248-A253-4615-8CB3-F1508019EF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B6CAA-B80B-4B8F-B020-8A4D03251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C882F-A3C2-4A89-BF44-40EC65B12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BFA84-1995-4886-8A80-31EFC2A4D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AA61A-59F7-465B-A786-32FBDF2CD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ABAFD-B71A-4669-9839-3C80DF48A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69F82-1F2C-4CF9-90C3-E4241B0A3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41534-8D42-4621-96C3-C3340A204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28403-6CC4-4717-BAA0-4B419123E4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C7EB1-51BB-4C5C-832D-77C8B8588E1A}"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est Practices in Medical Privacy</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riram Lakshmanan</a:t>
            </a:r>
            <a:r>
              <a:rPr b="0" lang="en-US" sz="1700" spc="-1" strike="noStrike">
                <a:solidFill>
                  <a:srgbClr val="000000"/>
                </a:solidFill>
                <a:latin typeface="Arial"/>
              </a:rPr>
              <a:t>,</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IS conference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ne, 30</a:t>
            </a:r>
            <a:r>
              <a:rPr b="0" lang="en-US" sz="1700" spc="-1" strike="noStrike" baseline="30000">
                <a:solidFill>
                  <a:srgbClr val="000000"/>
                </a:solidFill>
                <a:latin typeface="Arial"/>
              </a:rPr>
              <a:t>th</a:t>
            </a:r>
            <a:r>
              <a:rPr b="0" lang="en-US" sz="1700" spc="-1" strike="noStrike">
                <a:solidFill>
                  <a:srgbClr val="000000"/>
                </a:solidFill>
                <a:latin typeface="Arial"/>
              </a:rPr>
              <a:t> June 2012</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T Act and its amend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vacy Principles</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ection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s collection of personal data by lawful and fair means and, where appropriate, with the knowledge or consent of the data subject.</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Quality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 complete and kept up-to-date relevant to the purpose.</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 Specific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should be specified not later than at the time of data collection </a:t>
            </a:r>
            <a:endParaRPr b="0" lang="en-US" sz="14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equent use limited to the fulfilment of those purposes</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be disclosed, made available or otherwise used for other purposes </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 when subject agrees – clinical trials?</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d by law </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Safeguards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data should be protected by reasonable security safeguard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nciples</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ness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arency…</a:t>
            </a:r>
            <a:endParaRPr b="0" lang="en-US" sz="16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ly available to establish the existence, nature and purpose</a:t>
            </a:r>
            <a:endParaRPr b="0" lang="en-US" sz="16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Participation Principle</a:t>
            </a:r>
            <a:endParaRPr b="0" lang="en-US" sz="18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s of the individual to ask for data:</a:t>
            </a:r>
            <a:endParaRPr b="0" lang="en-US" sz="14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bility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a controller should be accountable for complying with measures which give effect to the principles stated abo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 do we really care?</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we post on Facebook Today etc?</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Medical association recommended its young Doctors not to accept Facebook reques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edi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lifornia AG Pushing Policies for All Apps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ifornia Attorney General Kamala Harris is on a mission to extend privacy protections common on the Web to smart devices, reports the </a:t>
            </a:r>
            <a:r>
              <a:rPr b="0" i="1" lang="en-US" sz="2100" spc="-1" strike="noStrike">
                <a:solidFill>
                  <a:srgbClr val="000000"/>
                </a:solidFill>
                <a:latin typeface="Arial"/>
              </a:rPr>
              <a:t>Los Angeles Times</a:t>
            </a:r>
            <a:r>
              <a:rPr b="0" lang="en-US" sz="2100" spc="-1" strike="noStrike">
                <a:solidFill>
                  <a:srgbClr val="000000"/>
                </a:solidFill>
                <a:latin typeface="Arial"/>
              </a:rPr>
              <a:t>. In her efforts she has brokered deals with seven of the big tech firms, the latest of which is Facebook. In the agreement, any application in Facebook's new App Center will be required to have a privacy policy letting consumers know what information it collects and what it does with that information. Harris says, "App users should know what personal information is collected, how it is used and with whom it is shared. If they know all of that, then they will have the tools and the ability to protect themselve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ALTHCARE PRIVACY—U.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ctor Fined $20K</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June 22, 2012</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Connecticut physician has been fined $20,000 for inappropriately accessing and downloading patient information held by his employer and contacting the patients to offer services. Dr. Gerald Micalizzi must also pursue ethics training and HIPAA compliance training as part of an agreement with the state's Medical Examining Board, the </a:t>
            </a:r>
            <a:r>
              <a:rPr b="0" i="1" lang="en-US" sz="2100" spc="-1" strike="noStrike">
                <a:solidFill>
                  <a:srgbClr val="000000"/>
                </a:solidFill>
                <a:latin typeface="Arial"/>
              </a:rPr>
              <a:t>Valley Independent Sentinel</a:t>
            </a:r>
            <a:r>
              <a:rPr b="0" lang="en-US" sz="2100" spc="-1" strike="noStrike">
                <a:solidFill>
                  <a:srgbClr val="000000"/>
                </a:solidFill>
                <a:latin typeface="Arial"/>
              </a:rPr>
              <a:t> reports. Micalizzi was fired from Advanced Mobile Imaging Radiology in 2010.</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KOREA</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Enabled Cards Cause Privacy Debate</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une 21, 2012</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orea’s National Emergency Management Agency has partnered with Korea Exchange Bank’s credit card unit to issue RFID-enabled cards designed to assist emergency services personnel in obtaining information about patients they treat, </a:t>
            </a:r>
            <a:r>
              <a:rPr b="0" i="1" lang="en-US" sz="1900" spc="-1" strike="noStrike">
                <a:solidFill>
                  <a:srgbClr val="000000"/>
                </a:solidFill>
                <a:latin typeface="Arial"/>
              </a:rPr>
              <a:t>The Korea Times</a:t>
            </a:r>
            <a:r>
              <a:rPr b="0" lang="en-US" sz="1900" spc="-1" strike="noStrike">
                <a:solidFill>
                  <a:srgbClr val="000000"/>
                </a:solidFill>
                <a:latin typeface="Arial"/>
              </a:rPr>
              <a:t> reports. The move has generated a heated debate about privacy, according to the report. The cards will contain biological information such as blood type, health conditions and other identity data, and emergency workers will use RFID devices to read the cards’ chips. “All information contained in the chip will be encoded, so only emergency service workers who have the RFID devices will be able to check the data,” an official said.</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l devices, such as diagnostic tablet computers, heart rate monitors, and MRI scanners, are just as susceptible to malware as standard laptop computers. To protect medical devices, McAfee offers solutions that prevent unauthorized changes and keep devices malware-free.</a:t>
            </a:r>
            <a:endParaRPr b="0" lang="en-US" sz="1900" spc="-1" strike="noStrike">
              <a:solidFill>
                <a:srgbClr val="000000"/>
              </a:solidFill>
              <a:latin typeface="Arial"/>
            </a:endParaRPr>
          </a:p>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cAfee Integrity Control locks down a medical device so only authorized executables and changes are allowed. This low-footprint solution protects against malware, unauthorized applications, and system changes. It also provides the ability to capture an audit trail of authorized changes, facilitating compliance and reporting. Only McAfee provides unique read/write protection for added data protection of field devices. With this feature, you can block the view and alteration of system data and configuration files from any other application other than the original creator of the data. For manufacturers of medical devices, McAfee offers these same capabilities with McAfee Embedded Securit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genda</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roduction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ational Privacy Laws vs India IT Act</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enforcement – various setting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 Patient and Care giver To-Do’s</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04920" y="76320"/>
            <a:ext cx="71625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riram Lakshmanan – Who? </a:t>
            </a:r>
            <a:r>
              <a:rPr b="0" lang="en-US" sz="3600" spc="-1" strike="noStrike">
                <a:solidFill>
                  <a:srgbClr val="000000"/>
                </a:solidFill>
                <a:latin typeface="Wingdings"/>
                <a:ea typeface="Wingdings"/>
              </a:rPr>
              <a:t></a:t>
            </a:r>
            <a:endParaRPr b="0" lang="en-US" sz="3600" spc="-1" strike="noStrike">
              <a:solidFill>
                <a:srgbClr val="336666"/>
              </a:solidFill>
              <a:latin typeface="Arial"/>
            </a:endParaRPr>
          </a:p>
        </p:txBody>
      </p:sp>
      <p:sp>
        <p:nvSpPr>
          <p:cNvPr id="95" name="Rectangle 3"/>
          <p:cNvSpPr/>
          <p:nvPr/>
        </p:nvSpPr>
        <p:spPr>
          <a:xfrm>
            <a:off x="2819520" y="1265400"/>
            <a:ext cx="5943600" cy="5364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lds a Bachelors degree in Computer Science from University of Delhi, India and a Management degree in Information Systems Management, from a B-School in Delhi, India</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been in Information Security domain for over 12 years,  with close to 16 years of experience overall</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industry certifications – CISSP, CISA, CISM, CIPP/IT, ISO27001 Lead Auditor, and other security product certification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 currently heads Information Security for UnitedHealth Gorup’s India entities. His responsibilities include</a:t>
            </a:r>
            <a:endParaRPr b="0" lang="en-US" sz="14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nterrise Vendor governance for Information Security </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formation security operations – scans, compliance, Awareness, Security monitoring etc</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oined UHG in Jan’08 from Citigroup, and has worked in BPO/KPO environments in the Information security discipline in the past</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s experience in the domain extends from designing and implementing security solutions, managing policies, monitoring third-party IS controls, conducting I-S Audits and providing I-S consultancy</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ds the time with his 4 &amp; half yr old girl to be the best after work stress buster</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joys travel and light reading (aka the comic strip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nkedin: </a:t>
            </a:r>
            <a:r>
              <a:rPr b="0" lang="en-US" sz="1400" spc="-1" strike="noStrike">
                <a:solidFill>
                  <a:srgbClr val="000000"/>
                </a:solidFill>
                <a:latin typeface="Arial"/>
              </a:rPr>
              <a:t>http://in.linkedin.com/in/lsriram </a:t>
            </a:r>
            <a:endParaRPr b="0" lang="en-US" sz="1400" spc="-1" strike="noStrike">
              <a:solidFill>
                <a:srgbClr val="336666"/>
              </a:solidFill>
              <a:latin typeface="Arial"/>
            </a:endParaRPr>
          </a:p>
        </p:txBody>
      </p:sp>
      <p:pic>
        <p:nvPicPr>
          <p:cNvPr id="96" name="Picture 4" descr="DSC04585"/>
          <p:cNvPicPr/>
          <p:nvPr/>
        </p:nvPicPr>
        <p:blipFill>
          <a:blip r:embed="rId1"/>
          <a:stretch/>
        </p:blipFill>
        <p:spPr>
          <a:xfrm>
            <a:off x="380880" y="2666880"/>
            <a:ext cx="2286000" cy="27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nitedHealth Group</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tune 21 </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erica’s leading healthcare and wellness company</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0+ bn in revenues</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 UnitedHealth Car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 Optum</a:t>
            </a:r>
            <a:endParaRPr b="0" lang="en-US" sz="20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es over 75 million people</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than US, offices in India, Manila, Ireland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US healthcare market</a:t>
            </a:r>
            <a:endParaRPr b="0" lang="en-US" sz="4200" spc="-1" strike="noStrike">
              <a:solidFill>
                <a:srgbClr val="000000"/>
              </a:solidFill>
              <a:latin typeface="Arial"/>
            </a:endParaRPr>
          </a:p>
        </p:txBody>
      </p:sp>
      <p:sp>
        <p:nvSpPr>
          <p:cNvPr id="100" name="PlaceHolder 2"/>
          <p:cNvSpPr>
            <a:spLocks noGrp="1"/>
          </p:cNvSpPr>
          <p:nvPr>
            <p:ph/>
          </p:nvPr>
        </p:nvSpPr>
        <p:spPr>
          <a:xfrm>
            <a:off x="1523520" y="1905120"/>
            <a:ext cx="350532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re </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65 year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taxes fund thi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ded - vision, dental</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i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come group and disabled</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plus Federal funding</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Pharmacy</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loyer sponsore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and employer funded</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ividual (private insurance)</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1" name="Rectangle 4"/>
          <p:cNvSpPr/>
          <p:nvPr/>
        </p:nvSpPr>
        <p:spPr>
          <a:xfrm>
            <a:off x="5410080" y="1828800"/>
            <a:ext cx="3505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allenges</a:t>
            </a:r>
            <a:endParaRPr b="0" lang="en-US" sz="19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thing electronic</a:t>
            </a:r>
            <a:endParaRPr b="0" lang="en-US" sz="18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s such as  Social Security</a:t>
            </a:r>
            <a:endParaRPr b="0" lang="en-US" sz="1800" spc="-1" strike="noStrike">
              <a:solidFill>
                <a:srgbClr val="336666"/>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ropean Healthcare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ar to the U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spital funded by Government and related bodi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xpayers mone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is VERY big conce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go to any docto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S Privacy laws</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nk Secrecy Act, 1970</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ir Credit Reporting Act, 1971</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vacy Act, 197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ight to Financial Privacy Act, 197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ble TV Privacy Act, 198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deo Privacy Protection Act, 198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mily Educational Right to Privacy Act, 1993</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ectronic Communications Privacy Act, 199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eedom of Information Act, 1966, 1991, 1996</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PAA, 1996.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TECH 2009 (Health Information Technology for Economic and Clinical Health Act)</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PA (Children‘s Online Privacy Protection Act, 1998)</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LB (Gramm-Leach-Bliley-Act, 1999)</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 / Canada / ANZ Privacy laws</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 Data Security Directiv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adian PIPE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6T06:41:12Z</dcterms:created>
  <dc:creator>slaks13</dc:creator>
  <dc:description/>
  <dc:language>en-US</dc:language>
  <cp:lastModifiedBy>Admin</cp:lastModifiedBy>
  <dcterms:modified xsi:type="dcterms:W3CDTF">2012-07-10T06:45:42Z</dcterms:modified>
  <cp:revision>28</cp:revision>
  <dc:subject/>
  <dc:title>Best Practices in Medical Privacy</dc:title>
</cp:coreProperties>
</file>