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DF7F-4BDB-44ED-A2C8-809214A6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9E1-9BC7-48E0-B893-19820D9C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1E0-A775-4CB5-B231-55839028F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F9D-E626-4D38-A543-6B3BADF9F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983C-3629-4632-A48C-EF436C3D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EBC4-419A-4C75-9010-5CD04E978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E01E-7627-4F84-AB9C-15C6511B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5F99-D2C4-431F-A727-894FB2249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408B9-1037-47BD-9701-F4B5EAF9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2128-AB31-4191-B4F0-2B329325B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E523-7285-4C4E-9AA9-F99D3E65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BDB2-CE14-444C-892D-B8162EEDD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2CD3-96CA-4C3B-8E6E-A4102C987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69617-7BD5-4606-BF06-E9E9312C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D486F-EE5D-4D51-A1C3-A9336534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147D-B061-434C-9F4B-BCCDAC7A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128B-3EA2-4B8C-B623-76759F28F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0B5-77B3-40E4-9295-2DE90909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CFB-B5AB-485A-B4C9-081B64BA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BF77-21DA-422A-9515-BE28700C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69E9-CD5E-48DB-AA7F-9501BDF5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95D-0EA4-4F4C-BA91-0B2B24C9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D429-598D-4C85-BCD2-3E6F136B7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03AF-8357-4976-9D1B-EE8D5A91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0768-9848-4530-9478-29EA488C3F6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BC30-053C-488F-8D5A-B6B7D50E793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BF429-A2DC-4CE4-8A51-2B392093C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98984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Privacy in Medical Settings vis-à-vis- PLHIV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133360" y="2322360"/>
            <a:ext cx="5105160" cy="127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June 20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4" descr="LC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1371600" y="4255920"/>
            <a:ext cx="64008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434F-5CD2-49D5-9A04-B2EABD2D62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patient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Diagnose and counsel patient about HIV and advise an HIV test (</a:t>
            </a:r>
            <a:r>
              <a:rPr b="0" i="1" lang="en-GB" sz="2700" spc="-1" strike="noStrike">
                <a:solidFill>
                  <a:srgbClr val="ffffff"/>
                </a:solidFill>
                <a:latin typeface="Times New Roman"/>
              </a:rPr>
              <a:t>BT v. Oei</a:t>
            </a:r>
            <a:r>
              <a:rPr b="0" lang="en-GB" sz="27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o disclose HIV status (</a:t>
            </a:r>
            <a:r>
              <a:rPr b="0" i="1" lang="en-GB" sz="2600" spc="-1" strike="noStrike">
                <a:solidFill>
                  <a:srgbClr val="ffffff"/>
                </a:solidFill>
                <a:latin typeface="Times New Roman"/>
              </a:rPr>
              <a:t>Reisner</a:t>
            </a: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to non-identifiable third persons/sexual partners: Disclose HIV status to patient, warn him of its risk to others and how to prevent transmission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Reisner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37 Cal. Rptr. 2d 518 (1995) an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BT v. Oei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[1999] NSWSC 10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DE5D-D1D2-4584-902B-BF072609D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-100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98064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Duty to warn wife or prospective wife arises as the fundamental right of wife to lead a healthy life outweighs the fundamental right of PLHIV to confidentiality and privacy.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X v. Hospital Z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, (1998) 8 SCC 29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-371520">
              <a:lnSpc>
                <a:spcPct val="80000"/>
              </a:lnSpc>
              <a:spcBef>
                <a:spcPts val="726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Right to marry suspended. Subsequently restored vide </a:t>
            </a:r>
            <a:r>
              <a:rPr b="0" i="1" lang="en-GB" sz="2900" spc="-1" strike="noStrike">
                <a:solidFill>
                  <a:srgbClr val="ffffff"/>
                </a:solidFill>
                <a:latin typeface="Tahoma"/>
              </a:rPr>
              <a:t>X. v. Hospital Z</a:t>
            </a:r>
            <a:r>
              <a:rPr b="0" lang="en-GB" sz="2900" spc="-1" strike="noStrike">
                <a:solidFill>
                  <a:srgbClr val="ffffff"/>
                </a:solidFill>
                <a:latin typeface="Tahoma"/>
              </a:rPr>
              <a:t>, (2003) 1 SCC 500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763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dbbd71"/>
                </a:solidFill>
                <a:uFillTx/>
                <a:latin typeface="Arial"/>
              </a:rPr>
              <a:t>DISCRIMINATORY PRACTICES ARISING OUT OF BREACH OF CONFIDENTIALITY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dical Confidentia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stigmatisation/isolation from commun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loss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pl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termination of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llowed  to 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*denial of access to future employ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igmatisation/isolation from co work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5E88-3AA8-46E0-9D38-24ABA300F0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T WORKPLACE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tests generally carried out to determine fitness of employe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ctor bound to maintain confidentiality of employee examin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Medical details, including HIV status, need not be disclosed; only fitness is required to be disclo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isclosure of other details permissible onl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determine fitness of employ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maintain a safe work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 protect the employee concern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-34164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t time of recruitment, a person is not bound to disclose HIV status unless required by law to do so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4320" indent="-303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, AIR 1997 Bom 40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1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National Policy on HIV/AIDS and the World of Work</a:t>
            </a:r>
            <a:r>
              <a:rPr b="1" lang="en-GB" sz="2800" spc="-1" strike="noStrike">
                <a:solidFill>
                  <a:srgbClr val="dbbd71"/>
                </a:solidFill>
                <a:latin typeface="Arial"/>
              </a:rPr>
              <a:t>	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 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Ministry of Labour and Employment 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There is no justification for asking job applicants or workers to disclose HIV-related personal information. Nor should co-workers be obliged to reveal personal information about fellow workers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Personal data covered by medical confidentiality should be stored only by personnel bound by rules on medical secrecy and should be maintained apart from all other personal data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 algn="just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ahoma"/>
              </a:rPr>
              <a:t>In case of medical examination, the employer should be informed only of the conclusion relevant to the particular employment decision. The conclusions should contain no information of a medical nature. They might as appropriate, indicate fitness for the proposed assignment or specify the kinds of jobs and the conditions of work which are medically contra-indicated, either temporarily or permanently.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25800" indent="0" algn="just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10690-D864-450D-BF8C-A1A7EE230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fidentiality and RTI Act 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confidentiality required to be maintained of the medical records of a patient including a convict considering the Regulations framed by the Medical Council of India can not override the provisions of the Right to Information Act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r. Surupsingh Hrya Naik Vs. State of Maharashtra AIR2007Bom12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Medical reports under RTI Ac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person’s HIV status is confidential and is protected in law and can only be disclosed to a third person in limited circumstances. The RTI Act specifically exempts the disclosure of personal information which is not of public interest; information which would cause an unwarranted invasion of privacy; and information which has been received in a fiduciary capacity. Therefore, The RTI Act, 2005 cannot be used to obtain a person’s HIV repo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Confidentiality and the Courts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tection and promotion of fundamental rights and dignity of PLHIV’s is critical to HIV/AIDS prevention and control strateg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face injustices on many fronts and are often are afraid to go to court to vindicate their rights thereby violating their right to equal protection of law and due proces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ppression of identity, whereby a person can litigate under a pseudonym, is a beneficent litigation strategy, long established in the area of family law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HIV’s can now apply for suppression orders and seek justice without the fear of HIV status becoming public knowledge. [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MX v. Z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AIR 1997 Bom 406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ADEC1-440B-4C57-B89A-C59A87B117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REMEDI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8487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ivil sui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civil courts)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uty + breach of confidentiality + injur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Consumer complaint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District/State/ National Consumer Commissions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Cause of action: Deficiency of servic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Damages / compen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Writ petitions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(fora: High Court under Article 226 and Supreme Court under Article 32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use of action: violation of right to life and personal liberty or other fundamental righ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iefs: Compensation and/or inj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bbd71"/>
                </a:solidFill>
                <a:latin typeface="Arial"/>
              </a:rPr>
              <a:t>THE RIGHTS-BASED APPROACH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Paradoxically enough, the only way in which we will deal effectively with the rapid spread of HIV/AIDS is by respecting and protecting the rights of those already exposed to it and those most at ris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.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Justice Michael Kirb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ormer Judge of High Court of Austral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dbbd71"/>
                </a:solidFill>
                <a:latin typeface="Arial"/>
              </a:rPr>
              <a:t>THE  LEGAL  RESPONSE ...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enerally there have been two types of legal responses to the HIV epidemic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se responses are diametrically opposed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y can be termed as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sol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 and the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integrationist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spons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bbd71"/>
                </a:solidFill>
                <a:latin typeface="Times New Roman"/>
                <a:ea typeface="ＭＳ Ｐゴシック"/>
              </a:rPr>
              <a:t>RIGHTS IN HIV/AI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685800" y="1752480"/>
            <a:ext cx="769608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egal and other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discrimin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or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sol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, hav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mandatory testin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and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breach confidential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drive the epidemic undergroun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Laws and policies, which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integra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persons living with HIV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encourage them to avail of servic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 which are available and therefore help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  <a:ea typeface="ＭＳ Ｐゴシック"/>
              </a:rPr>
              <a:t>curb the spread of HIV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ＭＳ Ｐゴシック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bbd71"/>
                </a:solidFill>
                <a:latin typeface="Arial"/>
              </a:rPr>
              <a:t>LAW ON HIV/AIDS IN INDIA</a:t>
            </a:r>
            <a:endParaRPr b="0" lang="en-US" sz="36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central or state law specifically on HIV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raft law on HIV/AIDS is pending with the Union Health Ministr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ly, persons living with HIV whose rights are violated take recourse to provisions in the Constitution and other general laws (employment law, family law, etc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icies and Guidelines by National AIDS Control Organis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2B18-AE2C-4E80-8BC5-5942A5D5B0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r>
              <a:rPr b="0" i="1" lang="en-US" sz="3200" spc="-1" strike="noStrike">
                <a:solidFill>
                  <a:srgbClr val="dbbd7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formation gathered during counseling must not be shared with other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Results to be  reported only to the client unless the client states the desire to share the test result with a family member, partner or close friend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HIV status and other health information can be shared amongst the  health care providers treating the person to ensure that he receives better treatment and car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e person with HIV has the right to privacy, and also the right to exercise informed consent in all decisions about disclosure in respect of his/her statu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C260-0157-450C-9682-D8EB342C94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Operational Guidelines for Integrated Counseling and Testing Centres – 2007</a:t>
            </a:r>
            <a:br>
              <a:rPr sz="2800"/>
            </a:b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dbbd71"/>
                </a:solidFill>
                <a:latin typeface="Arial"/>
              </a:rPr>
              <a:t>-</a:t>
            </a:r>
            <a:r>
              <a:rPr b="1" i="1" lang="en-US" sz="2800" spc="-1" strike="noStrike">
                <a:solidFill>
                  <a:srgbClr val="dbbd71"/>
                </a:solidFill>
                <a:latin typeface="Arial"/>
              </a:rPr>
              <a:t> NACO</a:t>
            </a:r>
            <a:endParaRPr b="0" lang="en-US" sz="2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th the consent of the person, Counselor can inform the nurse or the operating physician. The disclosed information must be kept confidential by the attending hospital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 HIV-positive person should be encouraged through counselling to disclose his status to his/her spouse or partner and bring the spouse or partner for counselling to an ICT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after repeated visits the counsellor feels that the client is not ready to share his/her status and the regular sexual partner of the client is deemed to be at risk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partner can be notified of the person's positive statu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This communication with the partner should be, without exception, in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ce-to-face setting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4DF8-177F-4E14-BA40-D0BB186BEF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DISCLOSE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9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Duty to warn third party/ partner  arises when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resence of a special relationship, e.g. doctor and patient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mminent risk of danger;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Forseeable person who is endangered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Tarasoff v. Regents of the University of California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7 Cal. 3d 425 (197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1203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E7F2-2A1F-4E42-A845-1361C7A70B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bbd71"/>
                </a:solidFill>
                <a:latin typeface="Arial"/>
              </a:rPr>
              <a:t>DUTY TO THIRD PARTY 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2500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7152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Duty arises when doctor fails to properly advise his patient, who is exposed to a communicable disease, and the patient relying, upon his advice, spreads the disease to a third party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i="1" lang="en-GB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-3301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Di Marco v. Lynch Homes-Chester Coun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, 583 A.2d 422 (1990)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71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873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tu</cp:lastModifiedBy>
  <dcterms:modified xsi:type="dcterms:W3CDTF">2012-06-29T11:37:26Z</dcterms:modified>
  <cp:revision>38</cp:revision>
  <dc:subject/>
  <dc:title>PowerPoint Presentation</dc:title>
</cp:coreProperties>
</file>