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0FCC8-805B-4D94-9863-ADAB13886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E9FAC-113B-42FE-AD3A-D97E35D1E8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8ADFAC-4E95-4E27-93C8-D161BD826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8D2A4F-E1B1-4064-907C-A642A5DC3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8B3106-F5C3-4115-8019-1BB72CD11F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1BEC6-8EAA-4F3A-98ED-8598B635C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47C38-06ED-4649-877D-DE8C05B23D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9C2C77-75B3-44DC-8B4F-205C0A8EC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AF9F9B-66F0-4A1C-BA0F-C37D3E6BA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551A9-9338-4C0B-9C1A-FC831B76FA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F0D3FF-DA3B-4A10-907A-207CA20F0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30948-EEC6-4974-923E-7AE1434FD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89CD0C-2B3F-4AA6-A905-E784D642D5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71E2A9-6E75-4990-89B3-599744400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8C389-BC3B-4A81-A3B4-C15524CD6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F441EC-548F-40C3-80F5-90D58D110C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98142B-CF88-471D-A7B8-FBD96ECE56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5A798-2BB5-4F7D-837A-8E401C39F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5EC38-675E-400A-AE2E-9A77932F6E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D00CEA-A073-4E21-8A13-A6C00AEC4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54B26-8A8C-4EB8-AA0F-98EE9EF8E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F4341-8C4F-4894-B5E5-B71433969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692DB-6182-46F2-A14A-0EF522C55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7C776-C454-47AA-AF6B-1C1E8993CB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94EE8-6238-47B6-8E21-24FA060394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94730-EC34-4FEB-BACE-BAFBEF428BE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Best Practices in Medical Privacy</a:t>
            </a:r>
            <a:endParaRPr b="0" lang="en-US" sz="4800" spc="-1" strike="noStrike">
              <a:solidFill>
                <a:srgbClr val="000000"/>
              </a:solidFill>
              <a:latin typeface="Arial"/>
            </a:endParaRPr>
          </a:p>
        </p:txBody>
      </p:sp>
      <p:sp>
        <p:nvSpPr>
          <p:cNvPr id="91"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riram Lakshmanan</a:t>
            </a:r>
            <a:r>
              <a:rPr b="0" lang="en-US" sz="1700" spc="-1" strike="noStrike">
                <a:solidFill>
                  <a:srgbClr val="000000"/>
                </a:solidFill>
                <a:latin typeface="Arial"/>
              </a:rPr>
              <a:t>,</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IS conference </a:t>
            </a:r>
            <a:endParaRPr b="0" lang="en-US" sz="1700" spc="-1" strike="noStrike">
              <a:solidFill>
                <a:srgbClr val="000000"/>
              </a:solidFill>
              <a:latin typeface="Arial"/>
            </a:endParaRPr>
          </a:p>
          <a:p>
            <a:pPr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une, 30</a:t>
            </a:r>
            <a:r>
              <a:rPr b="0" lang="en-US" sz="1700" spc="-1" strike="noStrike" baseline="30000">
                <a:solidFill>
                  <a:srgbClr val="000000"/>
                </a:solidFill>
                <a:latin typeface="Arial"/>
              </a:rPr>
              <a:t>th</a:t>
            </a:r>
            <a:r>
              <a:rPr b="0" lang="en-US" sz="1700" spc="-1" strike="noStrike">
                <a:solidFill>
                  <a:srgbClr val="000000"/>
                </a:solidFill>
                <a:latin typeface="Arial"/>
              </a:rPr>
              <a:t> June 2012</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1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T Act and its amendment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vacy Principles</a:t>
            </a: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llection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s collection of personal data by lawful and fair means and, where appropriate, with the knowledge or consent of the data subject.</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 Quality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urate, complete and kept up-to-date relevant to the purpose.</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rpose Specific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should be specified not later than at the time of data collection </a:t>
            </a:r>
            <a:endParaRPr b="0" lang="en-US" sz="14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equent use limited to the fulfilment of those purposes</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Limitation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be disclosed, made available or otherwise used for other purposes </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ept when subject agrees – clinical trials?</a:t>
            </a:r>
            <a:endParaRPr b="0" lang="en-US" sz="1400" spc="-1" strike="noStrike">
              <a:solidFill>
                <a:srgbClr val="000000"/>
              </a:solidFill>
              <a:latin typeface="Arial"/>
            </a:endParaRPr>
          </a:p>
          <a:p>
            <a:pPr lvl="2" marL="1143000" indent="-228600">
              <a:lnSpc>
                <a:spcPct val="80000"/>
              </a:lnSpc>
              <a:spcBef>
                <a:spcPts val="34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quired by law </a:t>
            </a:r>
            <a:endParaRPr b="0" lang="en-US" sz="1400" spc="-1" strike="noStrike">
              <a:solidFill>
                <a:srgbClr val="000000"/>
              </a:solidFill>
              <a:latin typeface="Arial"/>
            </a:endParaRPr>
          </a:p>
          <a:p>
            <a:pPr marL="343080" indent="-343080">
              <a:lnSpc>
                <a:spcPct val="8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ity Safeguards Principle</a:t>
            </a:r>
            <a:endParaRPr b="0" lang="en-US" sz="16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sonal data should be protected by reasonable security safeguards</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OECD Principles</a:t>
            </a:r>
            <a:endParaRPr b="0" lang="en-US" sz="4200" spc="-1" strike="noStrike">
              <a:solidFill>
                <a:srgbClr val="000000"/>
              </a:solidFill>
              <a:latin typeface="Arial"/>
            </a:endParaRPr>
          </a:p>
        </p:txBody>
      </p:sp>
      <p:sp>
        <p:nvSpPr>
          <p:cNvPr id="11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penness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parency…</a:t>
            </a:r>
            <a:endParaRPr b="0" lang="en-US" sz="16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ly available to establish the existence, nature and purpose</a:t>
            </a:r>
            <a:endParaRPr b="0" lang="en-US" sz="16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dividual Participation Principle</a:t>
            </a:r>
            <a:endParaRPr b="0" lang="en-US" sz="1800" spc="-1" strike="noStrike">
              <a:solidFill>
                <a:srgbClr val="000000"/>
              </a:solidFill>
              <a:latin typeface="Arial"/>
            </a:endParaRPr>
          </a:p>
          <a:p>
            <a:pPr lvl="1" marL="743040" indent="-285840">
              <a:lnSpc>
                <a:spcPct val="80000"/>
              </a:lnSpc>
              <a:spcBef>
                <a:spcPts val="3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ghts of the individual to ask for data:</a:t>
            </a:r>
            <a:endParaRPr b="0" lang="en-US" sz="14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ountability Principle</a:t>
            </a:r>
            <a:endParaRPr b="0" lang="en-US" sz="1800" spc="-1" strike="noStrike">
              <a:solidFill>
                <a:srgbClr val="000000"/>
              </a:solidFill>
              <a:latin typeface="Arial"/>
            </a:endParaRPr>
          </a:p>
          <a:p>
            <a:pPr lvl="1" marL="743040" indent="-285840">
              <a:lnSpc>
                <a:spcPct val="8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ata controller should be accountable for complying with measures which give effect to the principles stated abov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 do we really care?</a:t>
            </a: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do we post on Facebook Today etc?</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tish Medical association recommended its young Doctors not to accept Facebook request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nkedi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1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lifornia AG Pushing Policies for All Apps </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alifornia Attorney General Kamala Harris is on a mission to extend privacy protections common on the Web to smart devices, reports the </a:t>
            </a:r>
            <a:r>
              <a:rPr b="0" i="1" lang="en-US" sz="2100" spc="-1" strike="noStrike">
                <a:solidFill>
                  <a:srgbClr val="000000"/>
                </a:solidFill>
                <a:latin typeface="Arial"/>
              </a:rPr>
              <a:t>Los Angeles Times</a:t>
            </a:r>
            <a:r>
              <a:rPr b="0" lang="en-US" sz="2100" spc="-1" strike="noStrike">
                <a:solidFill>
                  <a:srgbClr val="000000"/>
                </a:solidFill>
                <a:latin typeface="Arial"/>
              </a:rPr>
              <a:t>. In her efforts she has brokered deals with seven of the big tech firms, the latest of which is Facebook. In the agreement, any application in Facebook's new App Center will be required to have a privacy policy letting consumers know what information it collects and what it does with that information. Harris says, "App users should know what personal information is collected, how it is used and with whom it is shared. If they know all of that, then they will have the tools and the ability to protect themselves."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Privacy Incidents around us</a:t>
            </a:r>
            <a:endParaRPr b="0" lang="en-US" sz="4200" spc="-1" strike="noStrike">
              <a:solidFill>
                <a:srgbClr val="000000"/>
              </a:solidFill>
              <a:latin typeface="Arial"/>
            </a:endParaRPr>
          </a:p>
        </p:txBody>
      </p:sp>
      <p:sp>
        <p:nvSpPr>
          <p:cNvPr id="121"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HEALTHCARE PRIVACY—U.S.</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octor Fined $20K</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June 22, 2012</a:t>
            </a: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 Connecticut physician has been fined $20,000 for inappropriately accessing and downloading patient information held by his employer and contacting the patients to offer services. Dr. Gerald Micalizzi must also pursue ethics training and HIPAA compliance training as part of an agreement with the state's Medical Examining Board, the </a:t>
            </a:r>
            <a:r>
              <a:rPr b="0" i="1" lang="en-US" sz="2100" spc="-1" strike="noStrike">
                <a:solidFill>
                  <a:srgbClr val="000000"/>
                </a:solidFill>
                <a:latin typeface="Arial"/>
              </a:rPr>
              <a:t>Valley Independent Sentinel</a:t>
            </a:r>
            <a:r>
              <a:rPr b="0" lang="en-US" sz="2100" spc="-1" strike="noStrike">
                <a:solidFill>
                  <a:srgbClr val="000000"/>
                </a:solidFill>
                <a:latin typeface="Arial"/>
              </a:rPr>
              <a:t> reports. Micalizzi was fired from Advanced Mobile Imaging Radiology in 2010.</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KOREA</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FID-Enabled Cards Cause Privacy Debate</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une 21, 2012</a:t>
            </a:r>
            <a:endParaRPr b="0" lang="en-US" sz="19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Korea’s National Emergency Management Agency has partnered with Korea Exchange Bank’s credit card unit to issue RFID-enabled cards designed to assist emergency services personnel in obtaining information about patients they treat, </a:t>
            </a:r>
            <a:r>
              <a:rPr b="0" i="1" lang="en-US" sz="1900" spc="-1" strike="noStrike">
                <a:solidFill>
                  <a:srgbClr val="000000"/>
                </a:solidFill>
                <a:latin typeface="Arial"/>
              </a:rPr>
              <a:t>The Korea Times</a:t>
            </a:r>
            <a:r>
              <a:rPr b="0" lang="en-US" sz="1900" spc="-1" strike="noStrike">
                <a:solidFill>
                  <a:srgbClr val="000000"/>
                </a:solidFill>
                <a:latin typeface="Arial"/>
              </a:rPr>
              <a:t> reports. The move has generated a heated debate about privacy, according to the report. The cards will contain biological information such as blood type, health conditions and other identity data, and emergency workers will use RFID devices to read the cards’ chips. “All information contained in the chip will be encoded, so only emergency service workers who have the RFID devices will be able to check the data,” an official said.</a:t>
            </a:r>
            <a:br>
              <a:rPr sz="1900"/>
            </a:br>
            <a:r>
              <a:rPr b="0" lang="en-US" sz="1900" spc="-1" strike="noStrike">
                <a:solidFill>
                  <a:srgbClr val="000000"/>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7010640" cy="4114800"/>
          </a:xfrm>
          <a:prstGeom prst="rect">
            <a:avLst/>
          </a:prstGeom>
          <a:noFill/>
          <a:ln w="0">
            <a:noFill/>
          </a:ln>
        </p:spPr>
        <p:txBody>
          <a:bodyPr anchor="t">
            <a:normAutofit fontScale="99000"/>
          </a:bodyPr>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l devices, such as diagnostic tablet computers, heart rate monitors, and MRI scanners, are just as susceptible to malware as standard laptop computers. To protect medical devices, McAfee offers solutions that prevent unauthorized changes and keep devices malware-free.</a:t>
            </a:r>
            <a:endParaRPr b="0" lang="en-US" sz="1900" spc="-1" strike="noStrike">
              <a:solidFill>
                <a:srgbClr val="000000"/>
              </a:solidFill>
              <a:latin typeface="Arial"/>
            </a:endParaRPr>
          </a:p>
          <a:p>
            <a:pPr marL="339480" indent="-3394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cAfee Integrity Control locks down a medical device so only authorized executables and changes are allowed. This low-footprint solution protects against malware, unauthorized applications, and system changes. It also provides the ability to capture an audit trail of authorized changes, facilitating compliance and reporting. Only McAfee provides unique read/write protection for added data protection of field devices. With this feature, you can block the view and alteration of system data and configuration files from any other application other than the original creator of the data. For manufacturers of medical devices, McAfee offers these same capabilities with McAfee Embedded Secur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Agenda</a:t>
            </a:r>
            <a:endParaRPr b="0" lang="en-US" sz="4200" spc="-1" strike="noStrike">
              <a:solidFill>
                <a:srgbClr val="000000"/>
              </a:solidFill>
              <a:latin typeface="Arial"/>
            </a:endParaRPr>
          </a:p>
        </p:txBody>
      </p:sp>
      <p:sp>
        <p:nvSpPr>
          <p:cNvPr id="9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roduction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ational Privacy Laws vs India IT Act</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enforcement – various settings</a:t>
            </a:r>
            <a:endParaRPr b="0" lang="en-US" sz="1900" spc="-1" strike="noStrike">
              <a:solidFill>
                <a:srgbClr val="000000"/>
              </a:solidFill>
              <a:latin typeface="Arial"/>
            </a:endParaRPr>
          </a:p>
          <a:p>
            <a:pPr marL="343080" indent="-343080">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ivacy – Patient and Care giver To-Do’s</a:t>
            </a:r>
            <a:endParaRPr b="0" lang="en-US" sz="1900" spc="-1" strike="noStrike">
              <a:solidFill>
                <a:srgbClr val="000000"/>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304920" y="76320"/>
            <a:ext cx="716256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mbria"/>
              </a:rPr>
              <a:t>Sriram Lakshmanan – Who? </a:t>
            </a:r>
            <a:r>
              <a:rPr b="0" lang="en-US" sz="3600" spc="-1" strike="noStrike">
                <a:solidFill>
                  <a:srgbClr val="000000"/>
                </a:solidFill>
                <a:latin typeface="Wingdings"/>
                <a:ea typeface="Wingdings"/>
              </a:rPr>
              <a:t></a:t>
            </a:r>
            <a:endParaRPr b="0" lang="en-US" sz="3600" spc="-1" strike="noStrike">
              <a:solidFill>
                <a:srgbClr val="336666"/>
              </a:solidFill>
              <a:latin typeface="Arial"/>
            </a:endParaRPr>
          </a:p>
        </p:txBody>
      </p:sp>
      <p:sp>
        <p:nvSpPr>
          <p:cNvPr id="95" name="Rectangle 3"/>
          <p:cNvSpPr/>
          <p:nvPr/>
        </p:nvSpPr>
        <p:spPr>
          <a:xfrm>
            <a:off x="2819520" y="1265400"/>
            <a:ext cx="5943600" cy="53640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olds a Bachelors degree in Computer Science from University of Delhi, India and a Management degree in Information Systems Management, from a B-School in Delhi, India</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been in Information Security domain for over 12 years,  with close to 16 years of experience overall</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as industry certifications – CISSP, CISA, CISM, CIPP/IT, ISO27001 Lead Auditor, and other security product certification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 currently heads Information Security for UnitedHealth Gorup’s India entities. His responsibilities include</a:t>
            </a:r>
            <a:endParaRPr b="0" lang="en-US" sz="14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Enterrise Vendor governance for Information Security </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 </a:t>
            </a:r>
            <a:r>
              <a:rPr b="0" lang="en-US" sz="1300" spc="-1" strike="noStrike">
                <a:solidFill>
                  <a:srgbClr val="000000"/>
                </a:solidFill>
                <a:latin typeface="Calibri"/>
              </a:rPr>
              <a:t>Information security operations – scans, compliance, Awareness, Security monitoring etc</a:t>
            </a:r>
            <a:endParaRPr b="0" lang="en-US" sz="1300" spc="-1" strike="noStrike">
              <a:solidFill>
                <a:srgbClr val="336666"/>
              </a:solidFill>
              <a:latin typeface="Arial"/>
            </a:endParaRPr>
          </a:p>
          <a:p>
            <a:pPr lvl="1" marL="914400" indent="-285840">
              <a:lnSpc>
                <a:spcPct val="80000"/>
              </a:lnSpc>
              <a:spcBef>
                <a:spcPts val="326"/>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oined UHG in Jan’08 from Citigroup, and has worked in BPO/KPO environments in the Information security discipline in the past</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s experience in the domain extends from designing and implementing security solutions, managing policies, monitoring third-party IS controls, conducting I-S Audits and providing I-S consultancy</a:t>
            </a:r>
            <a:br>
              <a:rPr sz="1400"/>
            </a:br>
            <a:r>
              <a:rPr b="0" lang="en-US" sz="1400" spc="-1" strike="noStrike">
                <a:solidFill>
                  <a:srgbClr val="000000"/>
                </a:solidFill>
                <a:latin typeface="Calibri"/>
              </a:rPr>
              <a:t> </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inds the time with his 4 &amp; half yr old girl to be the best after work stress buster</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njoys travel and light reading (aka the comic strips)</a:t>
            </a: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Arial"/>
            </a:endParaRPr>
          </a:p>
          <a:p>
            <a:pPr marL="457200" indent="-457200">
              <a:lnSpc>
                <a:spcPct val="80000"/>
              </a:lnSpc>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inkedin: </a:t>
            </a:r>
            <a:r>
              <a:rPr b="0" lang="en-US" sz="1400" spc="-1" strike="noStrike">
                <a:solidFill>
                  <a:srgbClr val="000000"/>
                </a:solidFill>
                <a:latin typeface="Arial"/>
              </a:rPr>
              <a:t>http://in.linkedin.com/in/lsriram </a:t>
            </a:r>
            <a:endParaRPr b="0" lang="en-US" sz="1400" spc="-1" strike="noStrike">
              <a:solidFill>
                <a:srgbClr val="336666"/>
              </a:solidFill>
              <a:latin typeface="Arial"/>
            </a:endParaRPr>
          </a:p>
        </p:txBody>
      </p:sp>
      <p:pic>
        <p:nvPicPr>
          <p:cNvPr id="96" name="Picture 4" descr="DSC04585"/>
          <p:cNvPicPr/>
          <p:nvPr/>
        </p:nvPicPr>
        <p:blipFill>
          <a:blip r:embed="rId1"/>
          <a:stretch/>
        </p:blipFill>
        <p:spPr>
          <a:xfrm>
            <a:off x="380880" y="2666880"/>
            <a:ext cx="2286000" cy="27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nitedHealth Group</a:t>
            </a: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tune 21 </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erica’s leading healthcare and wellness company</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10+ bn in revenues</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 UnitedHealth Ca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 Optum</a:t>
            </a:r>
            <a:endParaRPr b="0" lang="en-US" sz="20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rves over 75 million people</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ther than US, offices in India, Manila, Ireland etc</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The US healthcare market</a:t>
            </a:r>
            <a:endParaRPr b="0" lang="en-US" sz="4200" spc="-1" strike="noStrike">
              <a:solidFill>
                <a:srgbClr val="000000"/>
              </a:solidFill>
              <a:latin typeface="Arial"/>
            </a:endParaRPr>
          </a:p>
        </p:txBody>
      </p:sp>
      <p:sp>
        <p:nvSpPr>
          <p:cNvPr id="100" name="PlaceHolder 2"/>
          <p:cNvSpPr>
            <a:spLocks noGrp="1"/>
          </p:cNvSpPr>
          <p:nvPr>
            <p:ph/>
          </p:nvPr>
        </p:nvSpPr>
        <p:spPr>
          <a:xfrm>
            <a:off x="1523520" y="1905120"/>
            <a:ext cx="350532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re </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t; 65 year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 taxes fund this</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luded - vision, dental</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dicai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income group and disabled</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e plus Federal funding</a:t>
            </a:r>
            <a:endParaRPr b="0" lang="en-US" sz="18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cludes Pharmacy</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mployer sponsored</a:t>
            </a:r>
            <a:endParaRPr b="0" lang="en-US" sz="1900" spc="-1" strike="noStrike">
              <a:solidFill>
                <a:srgbClr val="000000"/>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e and employer funded</a:t>
            </a:r>
            <a:endParaRPr b="0" lang="en-US" sz="1800" spc="-1" strike="noStrike">
              <a:solidFill>
                <a:srgbClr val="000000"/>
              </a:solidFill>
              <a:latin typeface="Arial"/>
            </a:endParaRPr>
          </a:p>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dividual (private insurance)</a:t>
            </a: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01" name="Rectangle 4"/>
          <p:cNvSpPr/>
          <p:nvPr/>
        </p:nvSpPr>
        <p:spPr>
          <a:xfrm>
            <a:off x="5410080" y="1828800"/>
            <a:ext cx="350532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allenges</a:t>
            </a:r>
            <a:endParaRPr b="0" lang="en-US" sz="19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thing electronic</a:t>
            </a:r>
            <a:endParaRPr b="0" lang="en-US" sz="1800" spc="-1" strike="noStrike">
              <a:solidFill>
                <a:srgbClr val="336666"/>
              </a:solidFill>
              <a:latin typeface="Arial"/>
            </a:endParaRPr>
          </a:p>
          <a:p>
            <a:pPr lvl="1" marL="743040" indent="-285840">
              <a:lnSpc>
                <a:spcPct val="8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rs such as  Social Security</a:t>
            </a:r>
            <a:endParaRPr b="0" lang="en-US" sz="1800" spc="-1" strike="noStrike">
              <a:solidFill>
                <a:srgbClr val="336666"/>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ropean Healthcare </a:t>
            </a:r>
            <a:endParaRPr b="0" lang="en-US" sz="4200" spc="-1" strike="noStrike">
              <a:solidFill>
                <a:srgbClr val="000000"/>
              </a:solidFill>
              <a:latin typeface="Arial"/>
            </a:endParaRPr>
          </a:p>
        </p:txBody>
      </p:sp>
      <p:sp>
        <p:nvSpPr>
          <p:cNvPr id="103"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ilar to the U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spital funded by Government and related bodies</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axpayers money</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is VERY big conc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dia?</a:t>
            </a: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go to any docto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US Privacy law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Bank Secrecy Act, 1970</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ir Credit Reporting Act, 1971</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rivacy Act, 197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ight to Financial Privacy Act, 197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able TV Privacy Act, 198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Video Privacy Protection Act, 1988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amily Educational Right to Privacy Act, 1993</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lectronic Communications Privacy Act, 1994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dom of Information Act, 1966, 1991, 1996</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PAA, 1996. </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TECH 2009 (Health Information Technology for Economic and Clinical Health Act)</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PPA (Children‘s Online Privacy Protection Act, 1998)</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LB (Gramm-Leach-Bliley-Act, 1999)</a:t>
            </a: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t>
            </a:r>
            <a:r>
              <a:rPr b="0" lang="en-US" sz="1700" spc="-1" strike="noStrike">
                <a:solidFill>
                  <a:srgbClr val="000000"/>
                </a:solidFill>
                <a:latin typeface="Arial"/>
              </a:rPr>
              <a:t>.</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U / Canada / ANZ Privacy laws</a:t>
            </a: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U Data Security Directiv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adian PIPE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6T06:41:12Z</dcterms:created>
  <dc:creator>slaks13</dc:creator>
  <dc:description/>
  <dc:language>en-US</dc:language>
  <cp:lastModifiedBy>Admin</cp:lastModifiedBy>
  <dcterms:modified xsi:type="dcterms:W3CDTF">2012-07-10T06:45:42Z</dcterms:modified>
  <cp:revision>28</cp:revision>
  <dc:subject/>
  <dc:title>Best Practices in Medical Privacy</dc:title>
</cp:coreProperties>
</file>