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2B84-2CC3-450D-B4A0-0BB312BAC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C27A-44BC-4624-8D37-1C148A953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249A-53C9-4DE2-9AA5-F5B803076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F756-1552-4A9F-B518-73342570D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C2860-A821-4A82-872B-9841B599C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70443-B77E-41BA-9519-033270DF3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66E56-D696-42A7-9179-97452B98B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7C795-4D12-444D-901F-5CBE38DE9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9BCD9-6A6A-40C5-9077-F5CF3494D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A1505-E67C-4346-9AE2-ABF3BCE3D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108D0-2759-45E7-93EE-DF631AEE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0FC1-72B9-484A-936F-4F21C63FC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5D1E2-EF69-46FB-8323-65A4B81D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5E428-ACAB-40FA-A962-C9FE8B79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CE8EE-6A8A-4062-84E4-61532F24E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75914-1D20-47D7-8C45-E0C522D55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496C7-EE80-4935-B0AF-7996D3378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C361-328F-4CBE-91E0-AAC50EABD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4517-221B-4A60-834D-7686D1D63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370E-5CB5-4AE0-B970-010B33507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8253-C52C-4B32-B8CD-8833A42EF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92B0-B3F1-4BE1-95D4-0B994014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07CA-5A10-4153-ADA3-01F3DD34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B55E-CBF7-4BB7-9B59-74DCDDA5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22B7E-C2C9-498C-B870-D952150ABFD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28606-6D9E-47A7-9EFC-0B639721BEF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9BEFB-6643-4CE2-9591-3B9ED5059B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98984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Confidentiality and Privacy in Medical Settings vis-à-vis- PLHIV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133360" y="2322360"/>
            <a:ext cx="5105160" cy="12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June 20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4" descr="LC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1371600" y="4255920"/>
            <a:ext cx="640080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3450B-9895-4ABB-A5F3-0CBD7029D0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bd71"/>
                </a:solidFill>
                <a:latin typeface="Arial"/>
              </a:rPr>
              <a:t>DUTY TO THIRD PARTY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7152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Duty to patient: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Times New Roman"/>
              </a:rPr>
              <a:t>Diagnose and counsel patient about HIV and advise an HIV test (</a:t>
            </a:r>
            <a:r>
              <a:rPr b="0" i="1" lang="en-GB" sz="2700" spc="-1" strike="noStrike">
                <a:solidFill>
                  <a:srgbClr val="ffffff"/>
                </a:solidFill>
                <a:latin typeface="Times New Roman"/>
              </a:rPr>
              <a:t>BT v. Oei</a:t>
            </a:r>
            <a:r>
              <a:rPr b="0" lang="en-GB" sz="27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to disclose HIV status (</a:t>
            </a:r>
            <a:r>
              <a:rPr b="0" i="1" lang="en-GB" sz="2600" spc="-1" strike="noStrike">
                <a:solidFill>
                  <a:srgbClr val="ffffff"/>
                </a:solidFill>
                <a:latin typeface="Times New Roman"/>
              </a:rPr>
              <a:t>Reisner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71520" indent="-37152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Duty to non-identifiable third persons/sexual partners: Disclose HIV status to patient, warn him of its risk to others and how to prevent transmission</a:t>
            </a: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Reisner v. Regents of the University of California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37 Cal. Rptr. 2d 518 (1995) a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BT v. Oei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[1999] NSWSC 10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5A6D8-96F4-4304-BC93-44028CB70E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-100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bd71"/>
                </a:solidFill>
                <a:latin typeface="Arial"/>
              </a:rPr>
              <a:t>DUTY TO DISCLOSE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98064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71520">
              <a:lnSpc>
                <a:spcPct val="80000"/>
              </a:lnSpc>
              <a:spcBef>
                <a:spcPts val="726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Duty to warn wife or prospective wife arises as the fundamental right of wife to lead a healthy life outweighs the fundamental right of PLHIV to confidentiality and privacy.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GB" sz="3000" spc="-1" strike="noStrike">
                <a:solidFill>
                  <a:srgbClr val="ffffff"/>
                </a:solidFill>
                <a:latin typeface="Tahoma"/>
              </a:rPr>
              <a:t>X v. Hospital Z</a:t>
            </a: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, (1998) 8 SCC 296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71520" indent="-371520">
              <a:lnSpc>
                <a:spcPct val="80000"/>
              </a:lnSpc>
              <a:spcBef>
                <a:spcPts val="726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Right to marry suspended. Subsequently restored vide </a:t>
            </a:r>
            <a:r>
              <a:rPr b="0" i="1" lang="en-GB" sz="2900" spc="-1" strike="noStrike">
                <a:solidFill>
                  <a:srgbClr val="ffffff"/>
                </a:solidFill>
                <a:latin typeface="Tahoma"/>
              </a:rPr>
              <a:t>X. v. Hospital Z</a:t>
            </a: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, (2003) 1 SCC 500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dbbd71"/>
                </a:solidFill>
                <a:uFillTx/>
                <a:latin typeface="Arial"/>
              </a:rPr>
              <a:t>DISCRIMINATORY PRACTICES ARISING OUT OF BREACH OF CONFIDENTIALITY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dical Confidentia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stigmatisation/isolation from commun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denial of access to treat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loss of employ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pl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termination of employ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allowed  to 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denial of access to future employ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igmatisation/isolation from co work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70E80-3338-474B-9EDF-2E1EE27DB2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CONFIDENTIALITY AT WORKPLACE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edical tests generally carried out to determine fitness of employe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octor bound to maintain confidentiality of employee examin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edical details, including HIV status, need not be disclosed; only fitness is required to be disclos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isclosure of other details permissible onl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4320" indent="-303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o determine fitness of employe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4320" indent="-303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o maintain a safe working environ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4320" indent="-303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o protect the employee concern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t time of recruitment, a person is not bound to disclose HIV status unless required by law to do s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4320" indent="-303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MX v. ZY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, AIR 1997 Bom 40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bbd71"/>
                </a:solidFill>
                <a:latin typeface="Arial"/>
              </a:rPr>
              <a:t>National Policy on HIV/AIDS and the World of Work</a:t>
            </a:r>
            <a:r>
              <a:rPr b="1" lang="en-GB" sz="2800" spc="-1" strike="noStrike">
                <a:solidFill>
                  <a:srgbClr val="dbbd71"/>
                </a:solidFill>
                <a:latin typeface="Arial"/>
              </a:rPr>
              <a:t>	</a:t>
            </a:r>
            <a:br>
              <a:rPr sz="2800"/>
            </a:b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- </a:t>
            </a:r>
            <a:r>
              <a:rPr b="1" i="1" lang="en-US" sz="2800" spc="-1" strike="noStrike">
                <a:solidFill>
                  <a:srgbClr val="dbbd71"/>
                </a:solidFill>
                <a:latin typeface="Arial"/>
              </a:rPr>
              <a:t>Ministry of Labour and Employment 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There is no justification for asking job applicants or workers to disclose HIV-related personal information. Nor should co-workers be obliged to reveal personal information about fellow workers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Personal data covered by medical confidentiality should be stored only by personnel bound by rules on medical secrecy and should be maintained apart from all other personal data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In case of medical examination, the employer should be informed only of the conclusion relevant to the particular employment decision. The conclusions should contain no information of a medical nature. They might as appropriate, indicate fitness for the proposed assignment or specify the kinds of jobs and the conditions of work which are medically contra-indicated, either temporarily or permanently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6FD76-C326-409A-BE36-068E14AA60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onfidentiality and RTI Act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confidentiality required to be maintained of the medical records of a patient including a convict considering the Regulations framed by the Medical Council of India can not override the provisions of the Right to Information Act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r. Surupsingh Hrya Naik Vs. State of Maharashtra AIR2007Bom12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Medical reports under RTI Ac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person’s HIV status is confidential and is protected in law and can only be disclosed to a third person in limited circumstances. The RTI Act specifically exempts the disclosure of personal information which is not of public interest; information which would cause an unwarranted invasion of privacy; and information which has been received in a fiduciary capacity. Therefore, The RTI Act, 2005 cannot be used to obtain a person’s HIV repor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Confidentiality and the Courts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tection and promotion of fundamental rights and dignity of PLHIV’s is critical to HIV/AIDS prevention and control strategi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HIV’s face injustices on many fronts and are often are afraid to go to court to vindicate their rights thereby violating their right to equal protection of law and due proces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ppression of identity, whereby a person can litigate under a pseudonym, is a beneficent litigation strategy, long established in the area of family la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HIV’s can now apply for suppression orders and seek justice without the fear of HIV status becoming public knowledge. [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MX v. Z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AIR 1997 Bom 406]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6AF15-6995-46F8-B3C5-BE7741886C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REMEDI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8487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Civil suits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(fora: civil courts):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ause of action: Duty + breach of confidentiality + injur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iefs: Damages and/or injun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Consumer complaints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(fora: District/State/ National Consumer Commissions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ause of action: Deficiency of servic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iefs: Damages / compens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Writ petitions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(fora: High Court under Article 226 and Supreme Court under Article 32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use of action: violation of right to life and personal liberty or other fundamental righ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iefs: Compensation and/or injun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THE RIGHTS-BASED APPROACH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Paradoxically enough, the only way in which we will deal effectively with the rapid spread of HIV/AIDS is by respecting and protecting the rights of those already exposed to it and those most at risk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.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75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Justice Michael Kirb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ormer Judge of High Court of Austral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bbd71"/>
                </a:solidFill>
                <a:latin typeface="Arial"/>
              </a:rPr>
              <a:t>THE  LEGAL  RESPONSE ...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enerally there have been two types of legal responses to the HIV epidemic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se responses are diametrically oppose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y can be termed as th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isolationist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sponse and th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integrationist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spons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bbd71"/>
                </a:solidFill>
                <a:latin typeface="Times New Roman"/>
                <a:ea typeface="ＭＳ Ｐゴシック"/>
              </a:rPr>
              <a:t>RIGHTS IN HIV/AI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685800" y="1752480"/>
            <a:ext cx="76960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egal and other policies, which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discrimin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isol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persons living with HIV, hav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mandatory test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an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breach confidentialit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drive the epidemic undergrou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aws and policies, which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integr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persons living with HIV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encourage them to avail of servic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which are available and therefore help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curb the spread of HIV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bbd71"/>
                </a:solidFill>
                <a:latin typeface="Arial"/>
              </a:rPr>
              <a:t>LAW ON HIV/AIDS IN INDIA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central or state law specifically on HIV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draft law on HIV/AIDS is pending with the Union Health Ministry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tly, persons living with HIV whose rights are violated take recourse to provisions in the Constitution and other general laws (employment law, family law, etc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licies and Guidelines by National AIDS Control Organis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C300A-2E6E-4BBF-8285-C5B3B0C412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Operational Guidelines for Integrated Counseling and Testing Centres – 2007</a:t>
            </a:r>
            <a:br>
              <a:rPr sz="2800"/>
            </a:b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-</a:t>
            </a:r>
            <a:r>
              <a:rPr b="1" i="1" lang="en-US" sz="2800" spc="-1" strike="noStrike">
                <a:solidFill>
                  <a:srgbClr val="dbbd71"/>
                </a:solidFill>
                <a:latin typeface="Arial"/>
              </a:rPr>
              <a:t> NACO</a:t>
            </a:r>
            <a:r>
              <a:rPr b="0" i="1" lang="en-US" sz="32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nformation gathered during counseling must not be shared with others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esults to be  reported only to the client unless the client states the desire to share the test result with a family member, partner or close friend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IV status and other health information can be shared amongst the  health care providers treating the person to ensure that he receives better treatment and car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e person with HIV has the right to privacy, and also the right to exercise informed consent in all decisions about disclosure in respect of his/her statu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1305C-6BDD-4E69-A3DF-0557AEBEEB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Operational Guidelines for Integrated Counseling and Testing Centres – 2007</a:t>
            </a:r>
            <a:br>
              <a:rPr sz="2800"/>
            </a:b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-</a:t>
            </a:r>
            <a:r>
              <a:rPr b="1" i="1" lang="en-US" sz="2800" spc="-1" strike="noStrike">
                <a:solidFill>
                  <a:srgbClr val="dbbd71"/>
                </a:solidFill>
                <a:latin typeface="Arial"/>
              </a:rPr>
              <a:t> NACO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th the consent of the person, Counselor can inform the nurse or the operating physician. The disclosed information must be kept confidential by the attending hospital staff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HIV-positive person should be encouraged through counselling to disclose his status to his/her spouse or partner and bring the spouse or partner for counselling to an ICTC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after repeated visits the counsellor feels that the client is not ready to share his/her status and the regular sexual partner of the client is deemed to be at risk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partner can be notified of the person's positive statu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This communication with the partner should be, without exception, in a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ce-to-face sett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23EF6-32E2-4E7E-8DE8-0AB83BEE39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bd71"/>
                </a:solidFill>
                <a:latin typeface="Arial"/>
              </a:rPr>
              <a:t>DUTY TO DISCLOSE 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7152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Duty to warn third party/ partner  arises when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resence of a special relationship, e.g. doctor and patient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Imminent risk of danger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Forseeable person who is endangered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Tarasoff v. Regents of the University of California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7 Cal. 3d 425 (1976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203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FA783-F331-41D4-8CF3-CB8F876109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bd71"/>
                </a:solidFill>
                <a:latin typeface="Arial"/>
              </a:rPr>
              <a:t>DUTY TO THIRD PARTY 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7152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Duty arises when doctor fails to properly advise his patient, who is exposed to a communicable disease, and the patient relying, upon his advice, spreads the disease to a third party</a:t>
            </a: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i="1" lang="en-GB" sz="3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Di Marco v. Lynch Homes-Chester County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583 A.2d 422 (1990)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itu</cp:lastModifiedBy>
  <dcterms:modified xsi:type="dcterms:W3CDTF">2012-06-29T11:37:26Z</dcterms:modified>
  <cp:revision>38</cp:revision>
  <dc:subject/>
  <dc:title>PowerPoint Presentation</dc:title>
</cp:coreProperties>
</file>