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4703-0D97-4177-9D8D-B4CB80C38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255B-22F4-4CD3-A967-5665FBDD8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34BC-3FE3-4927-BAF2-5BF86D187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3B37-2A0A-4DC2-AC2D-19104AE54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64E50-AF9B-488B-8590-5DEB8DB93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9ECA4-36C2-418D-B97F-4C5856DD6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36DA8-1E78-4422-BD92-EA6D007E6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B6B75-C899-4FDE-9AD8-4F22ADD09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E1E85-AE5A-41B1-894C-40370282C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C17A1-CEFA-4E9C-9549-900869B91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189D4-76EC-45B7-816E-CF94D406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B7A4-4169-4A3C-973E-7245A0361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67C36-5659-463E-BB91-774044F0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078EC-7984-4EAC-B5E9-86B86A46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2F0E9-8E98-42F8-99B3-72D909DCD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65500-25A8-448E-839A-3745DDE45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AB076-2069-4ACD-A76F-67FA7A41E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4349-AB4D-433C-BDC2-8FB554894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0091-138B-4B67-9611-0B818B84A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292A-073D-4416-8953-051F10E29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0192-43A6-4144-8268-96124FABE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C397-5F0C-4172-8FD9-047B861B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900A-FE66-4271-952D-EDB31F63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329A-1E5F-4490-8BE8-41B0850B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DAE7F-3D3A-4855-AE14-5B9B6924A5F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E6C01-E4B5-43B8-B30F-8D945AA775D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89D23-ED54-4295-BABE-AE31A47893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98984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Confidentiality and Privacy in Medical Settings vis-à-vis- PLHIV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133360" y="2322360"/>
            <a:ext cx="5105160" cy="12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June 20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4" descr="LC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1371600" y="4255920"/>
            <a:ext cx="640080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F03AF-B1CC-40B9-ADDC-BDFCBFBD5C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bbd71"/>
                </a:solidFill>
                <a:latin typeface="Arial"/>
              </a:rPr>
              <a:t>DUTY TO THIRD PARTY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7152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Duty to patient: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Times New Roman"/>
              </a:rPr>
              <a:t>Diagnose and counsel patient about HIV and advise an HIV test (</a:t>
            </a:r>
            <a:r>
              <a:rPr b="0" i="1" lang="en-GB" sz="2700" spc="-1" strike="noStrike">
                <a:solidFill>
                  <a:srgbClr val="ffffff"/>
                </a:solidFill>
                <a:latin typeface="Times New Roman"/>
              </a:rPr>
              <a:t>BT v. Oei</a:t>
            </a:r>
            <a:r>
              <a:rPr b="0" lang="en-GB" sz="27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to disclose HIV status (</a:t>
            </a:r>
            <a:r>
              <a:rPr b="0" i="1" lang="en-GB" sz="2600" spc="-1" strike="noStrike">
                <a:solidFill>
                  <a:srgbClr val="ffffff"/>
                </a:solidFill>
                <a:latin typeface="Times New Roman"/>
              </a:rPr>
              <a:t>Reisner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71520" indent="-37152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Duty to non-identifiable third persons/sexual partners: Disclose HIV status to patient, warn him of its risk to others and how to prevent transmission</a:t>
            </a: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Reisner v. Regents of the University of California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37 Cal. Rptr. 2d 518 (1995) a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BT v. Oei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[1999] NSWSC 108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AEB58-84EE-4C02-BF91-6C925FB8ED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-100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bbd71"/>
                </a:solidFill>
                <a:latin typeface="Arial"/>
              </a:rPr>
              <a:t>DUTY TO DISCLOSE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98064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71520">
              <a:lnSpc>
                <a:spcPct val="80000"/>
              </a:lnSpc>
              <a:spcBef>
                <a:spcPts val="726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Duty to warn wife or prospective wife arises as the fundamental right of wife to lead a healthy life outweighs the fundamental right of PLHIV to confidentiality and privacy. 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GB" sz="3000" spc="-1" strike="noStrike">
                <a:solidFill>
                  <a:srgbClr val="ffffff"/>
                </a:solidFill>
                <a:latin typeface="Tahoma"/>
              </a:rPr>
              <a:t>X v. Hospital Z</a:t>
            </a: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, (1998) 8 SCC 296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71520" indent="-371520">
              <a:lnSpc>
                <a:spcPct val="80000"/>
              </a:lnSpc>
              <a:spcBef>
                <a:spcPts val="726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Right to marry suspended. Subsequently restored vide </a:t>
            </a:r>
            <a:r>
              <a:rPr b="0" i="1" lang="en-GB" sz="2900" spc="-1" strike="noStrike">
                <a:solidFill>
                  <a:srgbClr val="ffffff"/>
                </a:solidFill>
                <a:latin typeface="Tahoma"/>
              </a:rPr>
              <a:t>X. v. Hospital Z</a:t>
            </a: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, (2003) 1 SCC 500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dbbd71"/>
                </a:solidFill>
                <a:uFillTx/>
                <a:latin typeface="Arial"/>
              </a:rPr>
              <a:t>DISCRIMINATORY PRACTICES ARISING OUT OF BREACH OF CONFIDENTIALITY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dical Confidentia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stigmatisation/isolation from commun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denial of access to treat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loss of employ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pl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termination of employ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allowed  to 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denial of access to future employ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igmatisation/isolation from co work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B61CD-6FC9-47EB-84B3-44AEEB0220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CONFIDENTIALITY AT WORKPLACE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edical tests generally carried out to determine fitness of employe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octor bound to maintain confidentiality of employee examin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edical details, including HIV status, need not be disclosed; only fitness is required to be disclos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isclosure of other details permissible onl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4320" indent="-303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o determine fitness of employe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4320" indent="-303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o maintain a safe working environ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4320" indent="-303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o protect the employee concern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t time of recruitment, a person is not bound to disclose HIV status unless required by law to do s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4320" indent="-303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MX v. ZY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, AIR 1997 Bom 40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bbd71"/>
                </a:solidFill>
                <a:latin typeface="Arial"/>
              </a:rPr>
              <a:t>National Policy on HIV/AIDS and the World of Work</a:t>
            </a:r>
            <a:r>
              <a:rPr b="1" lang="en-GB" sz="2800" spc="-1" strike="noStrike">
                <a:solidFill>
                  <a:srgbClr val="dbbd71"/>
                </a:solidFill>
                <a:latin typeface="Arial"/>
              </a:rPr>
              <a:t>	</a:t>
            </a:r>
            <a:br>
              <a:rPr sz="2800"/>
            </a:b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- </a:t>
            </a:r>
            <a:r>
              <a:rPr b="1" i="1" lang="en-US" sz="2800" spc="-1" strike="noStrike">
                <a:solidFill>
                  <a:srgbClr val="dbbd71"/>
                </a:solidFill>
                <a:latin typeface="Arial"/>
              </a:rPr>
              <a:t>Ministry of Labour and Employment 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There is no justification for asking job applicants or workers to disclose HIV-related personal information. Nor should co-workers be obliged to reveal personal information about fellow workers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Personal data covered by medical confidentiality should be stored only by personnel bound by rules on medical secrecy and should be maintained apart from all other personal data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In case of medical examination, the employer should be informed only of the conclusion relevant to the particular employment decision. The conclusions should contain no information of a medical nature. They might as appropriate, indicate fitness for the proposed assignment or specify the kinds of jobs and the conditions of work which are medically contra-indicated, either temporarily or permanently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03C5C-0622-428A-A1BC-BD7F827E64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onfidentiality and RTI Act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confidentiality required to be maintained of the medical records of a patient including a convict considering the Regulations framed by the Medical Council of India can not override the provisions of the Right to Information Act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r. Surupsingh Hrya Naik Vs. State of Maharashtra AIR2007Bom12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Medical reports under RTI Ac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person’s HIV status is confidential and is protected in law and can only be disclosed to a third person in limited circumstances. The RTI Act specifically exempts the disclosure of personal information which is not of public interest; information which would cause an unwarranted invasion of privacy; and information which has been received in a fiduciary capacity. Therefore, The RTI Act, 2005 cannot be used to obtain a person’s HIV repor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Confidentiality and the Courts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tection and promotion of fundamental rights and dignity of PLHIV’s is critical to HIV/AIDS prevention and control strategi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HIV’s face injustices on many fronts and are often are afraid to go to court to vindicate their rights thereby violating their right to equal protection of law and due proces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ppression of identity, whereby a person can litigate under a pseudonym, is a beneficent litigation strategy, long established in the area of family la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HIV’s can now apply for suppression orders and seek justice without the fear of HIV status becoming public knowledge. [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MX v. Z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AIR 1997 Bom 406]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22C55-3EDE-4EF0-AA73-D5A8D42B0F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REMEDI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8487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ahoma"/>
              </a:rPr>
              <a:t>Civil suits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(fora: civil courts):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ause of action: Duty + breach of confidentiality + injur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liefs: Damages and/or injun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ahoma"/>
              </a:rPr>
              <a:t>Consumer complaints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(fora: District/State/ National Consumer Commissions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ause of action: Deficiency of servic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liefs: Damages / compens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ahoma"/>
              </a:rPr>
              <a:t>Writ petitions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(fora: High Court under Article 226 and Supreme Court under Article 32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use of action: violation of right to life and personal liberty or other fundamental righ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liefs: Compensation and/or injun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THE RIGHTS-BASED APPROACH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Paradoxically enough, the only way in which we will deal effectively with the rapid spread of HIV/AIDS is by respecting and protecting the rights of those already exposed to it and those most at risk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.”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75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Justice Michael Kirb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ormer Judge of High Court of Austral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bbd71"/>
                </a:solidFill>
                <a:latin typeface="Arial"/>
              </a:rPr>
              <a:t>THE  LEGAL  RESPONSE ...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enerally there have been two types of legal responses to the HIV epidemic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se responses are diametrically oppose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y can be termed as th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isolationist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sponse and th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integrationist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spons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bbd71"/>
                </a:solidFill>
                <a:latin typeface="Times New Roman"/>
                <a:ea typeface="ＭＳ Ｐゴシック"/>
              </a:rPr>
              <a:t>RIGHTS IN HIV/AI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685800" y="1752480"/>
            <a:ext cx="76960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egal and other policies, which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discrimina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isola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persons living with HIV, hav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mandatory test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an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breach confidentialit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drive the epidemic undergroun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aws and policies, which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integra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persons living with HIV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encourage them to avail of servic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which are available and therefore help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curb the spread of HIV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bbd71"/>
                </a:solidFill>
                <a:latin typeface="Arial"/>
              </a:rPr>
              <a:t>LAW ON HIV/AIDS IN INDIA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central or state law specifically on HIV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draft law on HIV/AIDS is pending with the Union Health Ministry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tly, persons living with HIV whose rights are violated take recourse to provisions in the Constitution and other general laws (employment law, family law, etc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licies and Guidelines by National AIDS Control Organis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66AD0-0BFE-4551-98FC-3A7E96E0D5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Operational Guidelines for Integrated Counseling and Testing Centres – 2007</a:t>
            </a:r>
            <a:br>
              <a:rPr sz="2800"/>
            </a:b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-</a:t>
            </a:r>
            <a:r>
              <a:rPr b="1" i="1" lang="en-US" sz="2800" spc="-1" strike="noStrike">
                <a:solidFill>
                  <a:srgbClr val="dbbd71"/>
                </a:solidFill>
                <a:latin typeface="Arial"/>
              </a:rPr>
              <a:t> NACO</a:t>
            </a:r>
            <a:r>
              <a:rPr b="0" i="1" lang="en-US" sz="32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nformation gathered during counseling must not be shared with others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esults to be  reported only to the client unless the client states the desire to share the test result with a family member, partner or close friend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IV status and other health information can be shared amongst the  health care providers treating the person to ensure that he receives better treatment and car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e person with HIV has the right to privacy, and also the right to exercise informed consent in all decisions about disclosure in respect of his/her statu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63911-5CC2-41BD-B500-045B41337E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Operational Guidelines for Integrated Counseling and Testing Centres – 2007</a:t>
            </a:r>
            <a:br>
              <a:rPr sz="2800"/>
            </a:b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-</a:t>
            </a:r>
            <a:r>
              <a:rPr b="1" i="1" lang="en-US" sz="2800" spc="-1" strike="noStrike">
                <a:solidFill>
                  <a:srgbClr val="dbbd71"/>
                </a:solidFill>
                <a:latin typeface="Arial"/>
              </a:rPr>
              <a:t> NACO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th the consent of the person, Counselor can inform the nurse or the operating physician. The disclosed information must be kept confidential by the attending hospital staff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HIV-positive person should be encouraged through counselling to disclose his status to his/her spouse or partner and bring the spouse or partner for counselling to an ICTC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after repeated visits the counsellor feels that the client is not ready to share his/her status and the regular sexual partner of the client is deemed to be at risk,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partner can be notified of the person's positive statu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This communication with the partner should be, without exception, in a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ce-to-face sett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49BDD-99A3-42F2-8A57-2F9C34790B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bbd71"/>
                </a:solidFill>
                <a:latin typeface="Arial"/>
              </a:rPr>
              <a:t>DUTY TO DISCLOSE 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7152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Duty to warn third party/ partner  arises when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resence of a special relationship, e.g. doctor and patient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Imminent risk of danger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Forseeable person who is endangered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Tarasoff v. Regents of the University of California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7 Cal. 3d 425 (1976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203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3CCEF-5E90-4C02-AD94-11BE569504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bbd71"/>
                </a:solidFill>
                <a:latin typeface="Arial"/>
              </a:rPr>
              <a:t>DUTY TO THIRD PARTY 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7152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Duty arises when doctor fails to properly advise his patient, who is exposed to a communicable disease, and the patient relying, upon his advice, spreads the disease to a third party</a:t>
            </a: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i="1" lang="en-GB" sz="3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Di Marco v. Lynch Homes-Chester County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583 A.2d 422 (1990)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itu</cp:lastModifiedBy>
  <dcterms:modified xsi:type="dcterms:W3CDTF">2012-06-29T11:37:26Z</dcterms:modified>
  <cp:revision>38</cp:revision>
  <dc:subject/>
  <dc:title>PowerPoint Presentation</dc:title>
</cp:coreProperties>
</file>